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2F8B-5CDF-4D5D-8262-6DDC5775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7C35-1CFC-4CBA-91C1-2671E8F6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7163-6AB7-4D34-8C39-A2D4D9A7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0948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3964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7932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0948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3964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B055-537A-4CFA-BF72-3A8D649F4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3D12-87B4-4163-B9E7-F2BA9512C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FE59-50A9-480F-AD07-95D50AA4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6C95-2CCD-4E28-950F-DAB9EC2F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E860-D1EA-400F-B678-BD87EC04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5CD8-8FD3-430D-AB11-158C459F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7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DD2E-2E91-4B4B-B8D6-E0189938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320D-3F84-4A63-8F69-22202161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C057-3D63-4A2D-81A0-3C9A0627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2B15-4049-48B3-9E99-735C96EA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93DA-1EDC-4B21-A188-8A74DF46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D261-98AA-4FEB-A5CA-38768461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BB91-C9D7-4FA5-A536-982610166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0948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3964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7932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0948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3964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7FA0-3AD4-44D1-9F8F-D2F9716EC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D9871-7F4F-4760-8DD9-2F2EA959F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FC1AD-A5DC-4C86-8194-74D0194E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DFFD5-DF22-48F4-8371-175E7AB4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ABDA0-8B12-406E-BA0D-C7E83616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999E6-4E0B-4D26-AE4E-3BD130A7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036F-5A0B-4F01-B3C7-EAA2B971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7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5D994-8CEC-4004-BDC0-B6C97A7E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74F0D-2FFB-45CD-9666-1AC8A866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B42D1-123E-450D-9B27-62D5D15A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CD986-9579-4A3C-8CDC-2A263EC9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83C75-2BBD-4002-9E63-F0CA750C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5FB07-9115-4053-AD5A-F448AC60C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0948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3964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7932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0948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3964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A2330-58E6-4E72-AE05-415F235CD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09DA6-0330-4E20-AA6C-600C5B69C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3D31C-0F48-4D2C-B42D-93CBF37E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6CD2A-412E-40E1-9AE0-1D952F58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CCAF-630B-4223-9074-F0C211F7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684B6-F994-489C-961E-E7F6910C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716EC-3DA2-41CD-AB5A-2D526D6B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7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9D615-CF33-4927-9C09-3D1CB8F2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83EDD-26F7-4BA2-872D-63CB8267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AFC81-2AD2-4079-94F4-E4C0B451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8DA89-B594-4CE4-BE8D-F81C3F48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D5455-757A-41F6-B496-10FB30A9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AE56D-00B8-4603-AF58-C880AD25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30948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93964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7932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30948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93964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C4B82-B716-4109-A637-C357A786C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9DF7-04FB-409C-9F0B-83FA6384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7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D9B8-1669-4FA7-A007-32C0A96C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B576-1885-4EAB-80B4-3A9908B4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9B32-A271-415F-9E4B-6F93264D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0989-E731-406A-ABAC-0488CBB4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79440" y="303120"/>
            <a:ext cx="8386560" cy="6175440"/>
            <a:chOff x="379440" y="303120"/>
            <a:chExt cx="8386560" cy="6175440"/>
          </a:xfrm>
        </p:grpSpPr>
        <p:sp>
          <p:nvSpPr>
            <p:cNvPr id="1" name=""/>
            <p:cNvSpPr/>
            <p:nvPr/>
          </p:nvSpPr>
          <p:spPr>
            <a:xfrm>
              <a:off x="380880" y="304920"/>
              <a:ext cx="8382240" cy="6172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79440" y="303120"/>
              <a:ext cx="230040" cy="6174000"/>
            </a:xfrm>
            <a:custGeom>
              <a:avLst/>
              <a:gdLst/>
              <a:ahLst/>
              <a:rect l="l" t="t" r="r" b="b"/>
              <a:pathLst>
                <a:path w="145" h="3889">
                  <a:moveTo>
                    <a:pt x="0" y="0"/>
                  </a:moveTo>
                  <a:lnTo>
                    <a:pt x="144" y="144"/>
                  </a:lnTo>
                  <a:lnTo>
                    <a:pt x="144" y="3744"/>
                  </a:lnTo>
                  <a:lnTo>
                    <a:pt x="0" y="3888"/>
                  </a:lnTo>
                  <a:lnTo>
                    <a:pt x="0" y="0"/>
                  </a:lnTo>
                </a:path>
              </a:pathLst>
            </a:custGeom>
            <a:solidFill>
              <a:srgbClr val="0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79440" y="303120"/>
              <a:ext cx="8383680" cy="230400"/>
            </a:xfrm>
            <a:custGeom>
              <a:avLst/>
              <a:gdLst/>
              <a:ahLst/>
              <a:rect l="l" t="t" r="r" b="b"/>
              <a:pathLst>
                <a:path w="5281" h="145">
                  <a:moveTo>
                    <a:pt x="0" y="0"/>
                  </a:moveTo>
                  <a:lnTo>
                    <a:pt x="144" y="144"/>
                  </a:lnTo>
                  <a:lnTo>
                    <a:pt x="5136" y="144"/>
                  </a:lnTo>
                  <a:lnTo>
                    <a:pt x="5280" y="0"/>
                  </a:lnTo>
                  <a:lnTo>
                    <a:pt x="0" y="0"/>
                  </a:lnTo>
                </a:path>
              </a:pathLst>
            </a:custGeom>
            <a:solidFill>
              <a:srgbClr val="0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535960" y="303120"/>
              <a:ext cx="230040" cy="6174000"/>
            </a:xfrm>
            <a:custGeom>
              <a:avLst/>
              <a:gdLst/>
              <a:ahLst/>
              <a:rect l="l" t="t" r="r" b="b"/>
              <a:pathLst>
                <a:path w="145" h="3889">
                  <a:moveTo>
                    <a:pt x="144" y="0"/>
                  </a:moveTo>
                  <a:lnTo>
                    <a:pt x="0" y="144"/>
                  </a:lnTo>
                  <a:lnTo>
                    <a:pt x="0" y="3744"/>
                  </a:lnTo>
                  <a:lnTo>
                    <a:pt x="144" y="3888"/>
                  </a:lnTo>
                  <a:lnTo>
                    <a:pt x="144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80880" y="6248520"/>
              <a:ext cx="8383680" cy="230040"/>
            </a:xfrm>
            <a:custGeom>
              <a:avLst/>
              <a:gdLst/>
              <a:ahLst/>
              <a:rect l="l" t="t" r="r" b="b"/>
              <a:pathLst>
                <a:path w="5281" h="145">
                  <a:moveTo>
                    <a:pt x="5280" y="144"/>
                  </a:moveTo>
                  <a:lnTo>
                    <a:pt x="5136" y="0"/>
                  </a:lnTo>
                  <a:lnTo>
                    <a:pt x="144" y="0"/>
                  </a:lnTo>
                  <a:lnTo>
                    <a:pt x="0" y="144"/>
                  </a:lnTo>
                  <a:lnTo>
                    <a:pt x="5280" y="144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34960" y="457200"/>
              <a:ext cx="77760" cy="4192560"/>
            </a:xfrm>
            <a:custGeom>
              <a:avLst/>
              <a:gdLst/>
              <a:ahLst/>
              <a:rect l="l" t="t" r="r" b="b"/>
              <a:pathLst>
                <a:path w="49" h="2641">
                  <a:moveTo>
                    <a:pt x="48" y="2640"/>
                  </a:moveTo>
                  <a:lnTo>
                    <a:pt x="0" y="0"/>
                  </a:lnTo>
                  <a:lnTo>
                    <a:pt x="48" y="47"/>
                  </a:lnTo>
                  <a:lnTo>
                    <a:pt x="48" y="264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33520" y="457200"/>
              <a:ext cx="5564160" cy="77760"/>
            </a:xfrm>
            <a:custGeom>
              <a:avLst/>
              <a:gdLst/>
              <a:ahLst/>
              <a:rect l="l" t="t" r="r" b="b"/>
              <a:pathLst>
                <a:path w="3505" h="49">
                  <a:moveTo>
                    <a:pt x="3504" y="48"/>
                  </a:moveTo>
                  <a:lnTo>
                    <a:pt x="1" y="0"/>
                  </a:lnTo>
                  <a:lnTo>
                    <a:pt x="0" y="48"/>
                  </a:lnTo>
                  <a:lnTo>
                    <a:pt x="3504" y="4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D9DC-3718-4A40-A022-C83152BD18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379440" y="303120"/>
            <a:ext cx="8386560" cy="6175440"/>
            <a:chOff x="379440" y="303120"/>
            <a:chExt cx="8386560" cy="6175440"/>
          </a:xfrm>
        </p:grpSpPr>
        <p:grpSp>
          <p:nvGrpSpPr>
            <p:cNvPr id="50" name=""/>
            <p:cNvGrpSpPr/>
            <p:nvPr/>
          </p:nvGrpSpPr>
          <p:grpSpPr>
            <a:xfrm>
              <a:off x="379440" y="303120"/>
              <a:ext cx="8386560" cy="6175440"/>
              <a:chOff x="379440" y="303120"/>
              <a:chExt cx="8386560" cy="6175440"/>
            </a:xfrm>
          </p:grpSpPr>
          <p:sp>
            <p:nvSpPr>
              <p:cNvPr id="51" name=""/>
              <p:cNvSpPr/>
              <p:nvPr/>
            </p:nvSpPr>
            <p:spPr>
              <a:xfrm>
                <a:off x="380880" y="304920"/>
                <a:ext cx="8382240" cy="61722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79440" y="303120"/>
                <a:ext cx="230040" cy="6174000"/>
              </a:xfrm>
              <a:custGeom>
                <a:avLst/>
                <a:gdLst/>
                <a:ahLst/>
                <a:rect l="l" t="t" r="r" b="b"/>
                <a:pathLst>
                  <a:path w="145" h="3889">
                    <a:moveTo>
                      <a:pt x="0" y="0"/>
                    </a:moveTo>
                    <a:lnTo>
                      <a:pt x="144" y="144"/>
                    </a:lnTo>
                    <a:lnTo>
                      <a:pt x="144" y="3744"/>
                    </a:lnTo>
                    <a:lnTo>
                      <a:pt x="0" y="38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79440" y="303120"/>
                <a:ext cx="8383680" cy="230400"/>
              </a:xfrm>
              <a:custGeom>
                <a:avLst/>
                <a:gdLst/>
                <a:ahLst/>
                <a:rect l="l" t="t" r="r" b="b"/>
                <a:pathLst>
                  <a:path w="5281" h="145">
                    <a:moveTo>
                      <a:pt x="0" y="0"/>
                    </a:moveTo>
                    <a:lnTo>
                      <a:pt x="144" y="144"/>
                    </a:lnTo>
                    <a:lnTo>
                      <a:pt x="5136" y="144"/>
                    </a:lnTo>
                    <a:lnTo>
                      <a:pt x="528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535960" y="303120"/>
                <a:ext cx="230040" cy="6174000"/>
              </a:xfrm>
              <a:custGeom>
                <a:avLst/>
                <a:gdLst/>
                <a:ahLst/>
                <a:rect l="l" t="t" r="r" b="b"/>
                <a:pathLst>
                  <a:path w="145" h="3889">
                    <a:moveTo>
                      <a:pt x="144" y="0"/>
                    </a:moveTo>
                    <a:lnTo>
                      <a:pt x="0" y="144"/>
                    </a:lnTo>
                    <a:lnTo>
                      <a:pt x="0" y="3744"/>
                    </a:lnTo>
                    <a:lnTo>
                      <a:pt x="144" y="388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80880" y="6248520"/>
                <a:ext cx="8383680" cy="230040"/>
              </a:xfrm>
              <a:custGeom>
                <a:avLst/>
                <a:gdLst/>
                <a:ahLst/>
                <a:rect l="l" t="t" r="r" b="b"/>
                <a:pathLst>
                  <a:path w="5281" h="145">
                    <a:moveTo>
                      <a:pt x="5280" y="144"/>
                    </a:moveTo>
                    <a:lnTo>
                      <a:pt x="5136" y="0"/>
                    </a:lnTo>
                    <a:lnTo>
                      <a:pt x="144" y="0"/>
                    </a:lnTo>
                    <a:lnTo>
                      <a:pt x="0" y="144"/>
                    </a:lnTo>
                    <a:lnTo>
                      <a:pt x="5280" y="144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534960" y="457200"/>
              <a:ext cx="77760" cy="4192560"/>
            </a:xfrm>
            <a:custGeom>
              <a:avLst/>
              <a:gdLst/>
              <a:ahLst/>
              <a:rect l="l" t="t" r="r" b="b"/>
              <a:pathLst>
                <a:path w="49" h="2641">
                  <a:moveTo>
                    <a:pt x="48" y="2640"/>
                  </a:moveTo>
                  <a:lnTo>
                    <a:pt x="0" y="0"/>
                  </a:lnTo>
                  <a:lnTo>
                    <a:pt x="48" y="47"/>
                  </a:lnTo>
                  <a:lnTo>
                    <a:pt x="48" y="264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457200"/>
              <a:ext cx="5564160" cy="77760"/>
            </a:xfrm>
            <a:custGeom>
              <a:avLst/>
              <a:gdLst/>
              <a:ahLst/>
              <a:rect l="l" t="t" r="r" b="b"/>
              <a:pathLst>
                <a:path w="3505" h="49">
                  <a:moveTo>
                    <a:pt x="3504" y="48"/>
                  </a:moveTo>
                  <a:lnTo>
                    <a:pt x="1" y="0"/>
                  </a:lnTo>
                  <a:lnTo>
                    <a:pt x="0" y="48"/>
                  </a:lnTo>
                  <a:lnTo>
                    <a:pt x="3504" y="4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E243-5695-4937-9445-FB7F7BCC73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379440" y="303120"/>
            <a:ext cx="8386560" cy="6175440"/>
            <a:chOff x="379440" y="303120"/>
            <a:chExt cx="8386560" cy="6175440"/>
          </a:xfrm>
        </p:grpSpPr>
        <p:sp>
          <p:nvSpPr>
            <p:cNvPr id="100" name=""/>
            <p:cNvSpPr/>
            <p:nvPr/>
          </p:nvSpPr>
          <p:spPr>
            <a:xfrm>
              <a:off x="380880" y="304920"/>
              <a:ext cx="8382240" cy="6172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9440" y="303120"/>
              <a:ext cx="230040" cy="6174000"/>
            </a:xfrm>
            <a:custGeom>
              <a:avLst/>
              <a:gdLst/>
              <a:ahLst/>
              <a:rect l="l" t="t" r="r" b="b"/>
              <a:pathLst>
                <a:path w="145" h="3889">
                  <a:moveTo>
                    <a:pt x="0" y="0"/>
                  </a:moveTo>
                  <a:lnTo>
                    <a:pt x="144" y="144"/>
                  </a:lnTo>
                  <a:lnTo>
                    <a:pt x="144" y="3744"/>
                  </a:lnTo>
                  <a:lnTo>
                    <a:pt x="0" y="3888"/>
                  </a:lnTo>
                  <a:lnTo>
                    <a:pt x="0" y="0"/>
                  </a:lnTo>
                </a:path>
              </a:pathLst>
            </a:custGeom>
            <a:solidFill>
              <a:srgbClr val="0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440" y="303120"/>
              <a:ext cx="8383680" cy="230400"/>
            </a:xfrm>
            <a:custGeom>
              <a:avLst/>
              <a:gdLst/>
              <a:ahLst/>
              <a:rect l="l" t="t" r="r" b="b"/>
              <a:pathLst>
                <a:path w="5281" h="145">
                  <a:moveTo>
                    <a:pt x="0" y="0"/>
                  </a:moveTo>
                  <a:lnTo>
                    <a:pt x="144" y="144"/>
                  </a:lnTo>
                  <a:lnTo>
                    <a:pt x="5136" y="144"/>
                  </a:lnTo>
                  <a:lnTo>
                    <a:pt x="5280" y="0"/>
                  </a:lnTo>
                  <a:lnTo>
                    <a:pt x="0" y="0"/>
                  </a:lnTo>
                </a:path>
              </a:pathLst>
            </a:custGeom>
            <a:solidFill>
              <a:srgbClr val="0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535960" y="303120"/>
              <a:ext cx="230040" cy="6174000"/>
            </a:xfrm>
            <a:custGeom>
              <a:avLst/>
              <a:gdLst/>
              <a:ahLst/>
              <a:rect l="l" t="t" r="r" b="b"/>
              <a:pathLst>
                <a:path w="145" h="3889">
                  <a:moveTo>
                    <a:pt x="144" y="0"/>
                  </a:moveTo>
                  <a:lnTo>
                    <a:pt x="0" y="144"/>
                  </a:lnTo>
                  <a:lnTo>
                    <a:pt x="0" y="3744"/>
                  </a:lnTo>
                  <a:lnTo>
                    <a:pt x="144" y="3888"/>
                  </a:lnTo>
                  <a:lnTo>
                    <a:pt x="144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0880" y="6248520"/>
              <a:ext cx="8383680" cy="230040"/>
            </a:xfrm>
            <a:custGeom>
              <a:avLst/>
              <a:gdLst/>
              <a:ahLst/>
              <a:rect l="l" t="t" r="r" b="b"/>
              <a:pathLst>
                <a:path w="5281" h="145">
                  <a:moveTo>
                    <a:pt x="5280" y="144"/>
                  </a:moveTo>
                  <a:lnTo>
                    <a:pt x="5136" y="0"/>
                  </a:lnTo>
                  <a:lnTo>
                    <a:pt x="144" y="0"/>
                  </a:lnTo>
                  <a:lnTo>
                    <a:pt x="0" y="144"/>
                  </a:lnTo>
                  <a:lnTo>
                    <a:pt x="5280" y="144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4960" y="457200"/>
              <a:ext cx="77760" cy="4192560"/>
            </a:xfrm>
            <a:custGeom>
              <a:avLst/>
              <a:gdLst/>
              <a:ahLst/>
              <a:rect l="l" t="t" r="r" b="b"/>
              <a:pathLst>
                <a:path w="49" h="2641">
                  <a:moveTo>
                    <a:pt x="48" y="2640"/>
                  </a:moveTo>
                  <a:lnTo>
                    <a:pt x="0" y="0"/>
                  </a:lnTo>
                  <a:lnTo>
                    <a:pt x="48" y="47"/>
                  </a:lnTo>
                  <a:lnTo>
                    <a:pt x="48" y="264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3520" y="457200"/>
              <a:ext cx="5564160" cy="77760"/>
            </a:xfrm>
            <a:custGeom>
              <a:avLst/>
              <a:gdLst/>
              <a:ahLst/>
              <a:rect l="l" t="t" r="r" b="b"/>
              <a:pathLst>
                <a:path w="3505" h="49">
                  <a:moveTo>
                    <a:pt x="3504" y="48"/>
                  </a:moveTo>
                  <a:lnTo>
                    <a:pt x="1" y="0"/>
                  </a:lnTo>
                  <a:lnTo>
                    <a:pt x="0" y="48"/>
                  </a:lnTo>
                  <a:lnTo>
                    <a:pt x="3504" y="4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65B7-9F70-482C-B3B2-E07CB6A16C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379440" y="303120"/>
            <a:ext cx="8386560" cy="6175440"/>
            <a:chOff x="379440" y="303120"/>
            <a:chExt cx="8386560" cy="6175440"/>
          </a:xfrm>
        </p:grpSpPr>
        <p:grpSp>
          <p:nvGrpSpPr>
            <p:cNvPr id="149" name=""/>
            <p:cNvGrpSpPr/>
            <p:nvPr/>
          </p:nvGrpSpPr>
          <p:grpSpPr>
            <a:xfrm>
              <a:off x="379440" y="303120"/>
              <a:ext cx="8386560" cy="6175440"/>
              <a:chOff x="379440" y="303120"/>
              <a:chExt cx="8386560" cy="6175440"/>
            </a:xfrm>
          </p:grpSpPr>
          <p:sp>
            <p:nvSpPr>
              <p:cNvPr id="150" name=""/>
              <p:cNvSpPr/>
              <p:nvPr/>
            </p:nvSpPr>
            <p:spPr>
              <a:xfrm>
                <a:off x="380880" y="304920"/>
                <a:ext cx="8382240" cy="61722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79440" y="303120"/>
                <a:ext cx="230040" cy="6174000"/>
              </a:xfrm>
              <a:custGeom>
                <a:avLst/>
                <a:gdLst/>
                <a:ahLst/>
                <a:rect l="l" t="t" r="r" b="b"/>
                <a:pathLst>
                  <a:path w="145" h="3889">
                    <a:moveTo>
                      <a:pt x="0" y="0"/>
                    </a:moveTo>
                    <a:lnTo>
                      <a:pt x="144" y="144"/>
                    </a:lnTo>
                    <a:lnTo>
                      <a:pt x="144" y="3744"/>
                    </a:lnTo>
                    <a:lnTo>
                      <a:pt x="0" y="38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9440" y="303120"/>
                <a:ext cx="8383680" cy="230400"/>
              </a:xfrm>
              <a:custGeom>
                <a:avLst/>
                <a:gdLst/>
                <a:ahLst/>
                <a:rect l="l" t="t" r="r" b="b"/>
                <a:pathLst>
                  <a:path w="5281" h="145">
                    <a:moveTo>
                      <a:pt x="0" y="0"/>
                    </a:moveTo>
                    <a:lnTo>
                      <a:pt x="144" y="144"/>
                    </a:lnTo>
                    <a:lnTo>
                      <a:pt x="5136" y="144"/>
                    </a:lnTo>
                    <a:lnTo>
                      <a:pt x="528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535960" y="303120"/>
                <a:ext cx="230040" cy="6174000"/>
              </a:xfrm>
              <a:custGeom>
                <a:avLst/>
                <a:gdLst/>
                <a:ahLst/>
                <a:rect l="l" t="t" r="r" b="b"/>
                <a:pathLst>
                  <a:path w="145" h="3889">
                    <a:moveTo>
                      <a:pt x="144" y="0"/>
                    </a:moveTo>
                    <a:lnTo>
                      <a:pt x="0" y="144"/>
                    </a:lnTo>
                    <a:lnTo>
                      <a:pt x="0" y="3744"/>
                    </a:lnTo>
                    <a:lnTo>
                      <a:pt x="144" y="388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80880" y="6248520"/>
                <a:ext cx="8383680" cy="230040"/>
              </a:xfrm>
              <a:custGeom>
                <a:avLst/>
                <a:gdLst/>
                <a:ahLst/>
                <a:rect l="l" t="t" r="r" b="b"/>
                <a:pathLst>
                  <a:path w="5281" h="145">
                    <a:moveTo>
                      <a:pt x="5280" y="144"/>
                    </a:moveTo>
                    <a:lnTo>
                      <a:pt x="5136" y="0"/>
                    </a:lnTo>
                    <a:lnTo>
                      <a:pt x="144" y="0"/>
                    </a:lnTo>
                    <a:lnTo>
                      <a:pt x="0" y="144"/>
                    </a:lnTo>
                    <a:lnTo>
                      <a:pt x="5280" y="144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534960" y="457200"/>
              <a:ext cx="77760" cy="4192560"/>
            </a:xfrm>
            <a:custGeom>
              <a:avLst/>
              <a:gdLst/>
              <a:ahLst/>
              <a:rect l="l" t="t" r="r" b="b"/>
              <a:pathLst>
                <a:path w="49" h="2641">
                  <a:moveTo>
                    <a:pt x="48" y="2640"/>
                  </a:moveTo>
                  <a:lnTo>
                    <a:pt x="0" y="0"/>
                  </a:lnTo>
                  <a:lnTo>
                    <a:pt x="48" y="47"/>
                  </a:lnTo>
                  <a:lnTo>
                    <a:pt x="48" y="264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520" y="457200"/>
              <a:ext cx="5564160" cy="77760"/>
            </a:xfrm>
            <a:custGeom>
              <a:avLst/>
              <a:gdLst/>
              <a:ahLst/>
              <a:rect l="l" t="t" r="r" b="b"/>
              <a:pathLst>
                <a:path w="3505" h="49">
                  <a:moveTo>
                    <a:pt x="3504" y="48"/>
                  </a:moveTo>
                  <a:lnTo>
                    <a:pt x="1" y="0"/>
                  </a:lnTo>
                  <a:lnTo>
                    <a:pt x="0" y="48"/>
                  </a:lnTo>
                  <a:lnTo>
                    <a:pt x="3504" y="4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10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sldNum" idx="12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6A9B-2D4D-4662-AE40-BC9D73DC4B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ir, We Would See Jesu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fe of Christ – Part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arter 9, Lesson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ke 1:1-5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s 1-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ible Histo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78960" y="1981080"/>
            <a:ext cx="3813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ion St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l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ttering of Peo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atriarc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od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nd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quest of 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d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4508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ted King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vided King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dah Al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p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u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ears of Sil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Life of Chr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38880" y="510552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asic Outl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79320" y="1676520"/>
            <a:ext cx="7778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ears of Pr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ginning Min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at Galilean Min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iod of Retir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sing Min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ast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r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l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925040" cy="5867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Bible Sto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tire bible story climaxes in the coming of the Christ and His wo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st important event in all human history was Deity (Christ in human form) coming to ear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out this event, no one, not even the best of all the ages, could be saved for in Him (Christ) is salv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Years of Preparation</a:t>
            </a:r>
            <a:br>
              <a:rPr sz="3200"/>
            </a:b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Luke 1:5-25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irth of John foret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briel announces the birth of John to Zachar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acharias doubts, v. 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the angel declares that Zacharias shall be mute until the accomplishment of the prediction, v. 19-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7932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Years of Preparation</a:t>
            </a:r>
            <a:br>
              <a:rPr sz="3200"/>
            </a:b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Luke 1:26-38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irth of Jesus foret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 months later, Gabriel announces the birth of Jesus to Ma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iraculous virgin conception of Holy Spirit, v. 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y Visits Elizabeth, her cousin, v.39-5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Mary spoke, Elizabeth’s baby leaped inside her womb, v. 4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izabeth calls Mary “mother of my Lord”, v. 4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y’s Song of Exultation and Praise, v. 46-5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 less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birth of John the Baptist and the birth of Jes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1:28:52Z</dcterms:created>
  <dc:creator> Tab Vines</dc:creator>
  <dc:description/>
  <dc:language>en-US</dc:language>
  <cp:lastModifiedBy>Frank D Vines</cp:lastModifiedBy>
  <dcterms:modified xsi:type="dcterms:W3CDTF">2006-07-05T15:39:28Z</dcterms:modified>
  <cp:revision>9</cp:revision>
  <dc:subject/>
  <dc:title>Sir, We Would See Jesus</dc:title>
</cp:coreProperties>
</file>